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FBF-79C2-492B-8CDA-ACD92502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24F-60F3-45C5-ABFD-36707B2C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058-3AA4-4BE4-ABDA-F7DBB387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626-CD62-4984-9456-52AE16C7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7350-3C97-4120-A8B6-706F29BC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45D9-DDEE-4254-804D-DCF4701E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36EE-BB1D-4F3C-8BA2-B4EC74CD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0F18-E416-4B14-914C-2CC7CAF0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68B5-E949-4736-BA34-F822957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D15D-C27B-4272-B66C-7C8D8EF0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0749-F1F0-48D6-986C-A29A3C5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51B-19E0-46EC-987F-16B12075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ECFE-75FE-4C65-89A8-25410BF7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AE18-6AA6-43E5-9742-4C8F35F8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6247-871B-4E35-A6C4-64B4286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D925-5091-4E88-94DB-0B7321CC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82B5-CC51-471F-99CD-02D0D579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3F2-AE36-48A1-909C-981778AA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EA7-4ECD-4177-AD61-4AC5A0FA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B1A-D8BE-44A8-9C02-B749CAF2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272-12C6-4857-9E41-E2062A20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498-5688-4472-ACE7-AEC64B93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E79-BC92-4E28-A16D-7468ED94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E48-0FB4-42FC-A5A3-CF855378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4C6C-310F-4EDA-86B4-E526D3DEB1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3490-0D59-41E6-B275-0A07102E96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: Data Col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characteristics of experimental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the principles of sampl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major types of experimental designs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a valid experi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remember methods of collecting data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some methods of collect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Music Ma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3645000"/>
            <a:ext cx="59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the experimental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cause-effect relation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independent and dependent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 experi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English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4365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should be included in a research stud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Exercise Ma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4508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experimental desig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 Pretest-posttest Control Group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- Quasi-experimental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- Time series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- Withdrawal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 Bag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Fatam</cp:lastModifiedBy>
  <dcterms:modified xsi:type="dcterms:W3CDTF">2008-05-11T18:50:53Z</dcterms:modified>
  <cp:revision>16</cp:revision>
  <dc:subject/>
  <dc:title>Course: Fundamentals of Research</dc:title>
</cp:coreProperties>
</file>